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7158-EBDF-4BD7-867F-F70BB4CE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1A6C-1482-438E-AA6D-497C6B390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4D30-D22F-48BC-B846-CA1C2017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CA4-B981-4EE2-A440-E81BF992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D421-305A-4255-A4D5-D8560909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999-FC89-4949-9D6C-3DCFC9A2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8CA-EDA4-47C0-ACE8-28F0E093D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BCD1-A5B4-422C-82F3-0CE415433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279-9FD3-49FE-BBC5-EDE9ADF2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EAE-2EAD-40A9-85A8-A4F35370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F12-28AE-4E0C-9540-22A88977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06D-564C-43C6-8614-B155AF65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C54-530E-4B2F-B146-D32E1438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73B-654F-4825-AEFF-B55F5F64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C7B-6358-4BB1-B066-8861B564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B49-2919-485E-87E6-178E9BCE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234-8CD0-45AE-9E09-3C49E0F2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12B-9EEE-46EE-898E-FAA08D7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270-B443-4128-9F7E-A5B72858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3DE-5C52-4A2B-86F8-777F2D5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9633-8BA4-472F-AA31-43C513F7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-32040" y="3124080"/>
            <a:ext cx="901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ntology Management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eter Fox (Semantic Web Cluster lea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SIP Water C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Jan 5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64F6-9B9A-4BEF-BE6D-90D4B021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0" y="3429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3828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03848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02920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693432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762012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720" y="2281320"/>
            <a:ext cx="150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o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6320880" y="1671480"/>
            <a:ext cx="263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sjointnes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rse, …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41440" y="3805200"/>
            <a:ext cx="15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36560" y="1519200"/>
            <a:ext cx="170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a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91120" y="19051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410080" y="1828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809880" y="1371600"/>
            <a:ext cx="1600200" cy="3809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571500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81952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495288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324480" y="3886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Rest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7543800" y="3733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85840" y="556272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iginally from AAAI 1999- Ontologies Panel by Gruninger, Lehmann,  McGuinness, Uschold, Wel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pdated by McGuinn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cription in: www.ksl.stanford.edu/people/dlm/papers/ontologies-come-of-age-abstrac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998800" y="152280"/>
            <a:ext cx="46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3352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ans - model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stanc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the model is really a schema or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models are either close-world semantics or informal ontologies (see ontology spect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s ontology ‘management’ due to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ccess may depend on a rationalization choice, e.g. all closed or all open (world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vel of knowledge representation, RDF, OWL, OWL 2 is another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of ontology must drive management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986200" y="152280"/>
            <a:ext cx="28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logic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ata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collection, management and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and information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issemination and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2009-03-05 (Chris Biz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4" descr="lod-datasets_2009-03-05.png"/>
          <p:cNvPicPr/>
          <p:nvPr/>
        </p:nvPicPr>
        <p:blipFill>
          <a:blip r:embed="rId1"/>
          <a:srcRect l="-7646" t="0" r="-7646" b="0"/>
          <a:stretch/>
        </p:blipFill>
        <p:spPr>
          <a:xfrm>
            <a:off x="-541440" y="304920"/>
            <a:ext cx="10142640" cy="670248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CAD-DFD6-4785-8252-654D7FA3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997000" y="1522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33520" y="1676520"/>
            <a:ext cx="7924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upposi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 and formalisms will evolve as people and their communities ‘come up to speed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s of use will expand, i.e. application levels will use combinations of inference, rules,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Integration framework, mid-level ontologies with modules im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 an ideal to date but has been limited in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nt progress and emerging better practices tell us that curation (people-intensive) is essential (no formalism or tool to do this, y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ases, use cases, us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New features of OWL 2 are looking very prom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697480" y="152280"/>
            <a:ext cx="63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andidate ontologies,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33520" y="1676520"/>
            <a:ext cx="7924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pe, I am not going to list them on a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5" descr="IDD PP POSI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3124080" y="74628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5cb1"/>
                </a:solidFill>
                <a:latin typeface="Verdana"/>
              </a:rPr>
              <a:t>Tetherless World Constel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989080" y="15228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523880"/>
            <a:ext cx="7924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ue to curation nee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 and formalisms will evolve as people and their communities ‘come up to speed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s of use will expand, i.e. application levels will use combinations of inference, rules, qu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s, this is a rep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overnance framework is / will be nee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: domain/ application practitioners separated from ‘technology’ practitio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ases are the implementation tes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4:03:49Z</dcterms:created>
  <dc:creator>Peter Darnell</dc:creator>
  <dc:description/>
  <dc:language>en-US</dc:language>
  <cp:lastModifiedBy>Peter Fox</cp:lastModifiedBy>
  <dcterms:modified xsi:type="dcterms:W3CDTF">2010-01-05T21:03:56Z</dcterms:modified>
  <cp:revision>18</cp:revision>
  <dc:subject/>
  <dc:title>PowerPoint Presentation</dc:title>
</cp:coreProperties>
</file>